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364D-2E79-4A64-AE48-4C77DCF6E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43A8-5988-49A1-A2E5-6D27002FB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184E-B204-439A-9A85-7C00611B4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D0B7-5833-4EB5-82CB-C5CF76322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123720" y="304920"/>
            <a:ext cx="5867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D819-00DA-4F5D-B782-30672D989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92C7-5F7C-4EAC-A49C-9272953B4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1B8D-6DAE-4A82-9027-C89C65FEF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4D97-03A2-48D3-8AFC-7F555D7C5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304920"/>
            <a:ext cx="5867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7184-B952-4D71-8C09-10940E88A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B942-30D4-4601-AF89-C5B927703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58E3-B78C-4B49-B5E7-6D00BC9AC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FEB5-4E14-47C5-8959-E34049DD3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7b14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1085760" indent="-217080">
              <a:lnSpc>
                <a:spcPct val="140000"/>
              </a:lnSpc>
              <a:spcBef>
                <a:spcPts val="601"/>
              </a:spcBef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519920" indent="-217080">
              <a:lnSpc>
                <a:spcPct val="140000"/>
              </a:lnSpc>
              <a:spcBef>
                <a:spcPts val="601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954440" indent="-217080">
              <a:lnSpc>
                <a:spcPct val="140000"/>
              </a:lnSpc>
              <a:spcBef>
                <a:spcPts val="601"/>
              </a:spcBef>
              <a:buClr>
                <a:srgbClr val="5858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954440" indent="-217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954440" indent="-217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2133720" cy="527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27b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1E81-D1A5-4B18-946C-47E0A5B19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7b14e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27b14e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2971800" cy="73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27b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xchangenetwork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7b14e"/>
                </a:solidFill>
                <a:latin typeface="Arial"/>
              </a:rPr>
              <a:t>EPA Data Policy</a:t>
            </a: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5858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Verdana"/>
              </a:rPr>
              <a:t>Mandate for data sharing / provision</a:t>
            </a:r>
            <a:endParaRPr b="0" lang="en-US" sz="20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Driven by multiple statute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Regulatory nature of EPA, priority on data collection required to carry out statutory requirement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Implementation of many programs is delegated to state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However, data sharing continues to be an underlying key principle in our regulatory program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Traditionally has been accomplished within programmatic stovepipe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Challenge is continuing to progress towards breaking these stovepipes and providing more comprehensive access to multi-media, multi-program data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9085-8214-4107-B2B8-0146184F7F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7b14e"/>
                </a:solidFill>
                <a:latin typeface="Arial"/>
              </a:rPr>
              <a:t>EPA Data Policy</a:t>
            </a: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858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Verdana"/>
              </a:rPr>
              <a:t>Limitations on data sharing</a:t>
            </a:r>
            <a:endParaRPr b="0" lang="en-US" sz="20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Verdana"/>
              </a:rPr>
              <a:t>Some data collected by EPA regulatory programs is protected under statute (FIFRA, TSCA) as Confidential Business Information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858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Verdana"/>
              </a:rPr>
              <a:t>Known user communities</a:t>
            </a:r>
            <a:endParaRPr b="0" lang="en-US" sz="20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Verdana"/>
              </a:rPr>
              <a:t>National Dialogue on Information Acces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Verdana"/>
              </a:rPr>
              <a:t>EPA as a component in an ecosystem of environmental data producers and consumers: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5858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Verdana"/>
              </a:rPr>
              <a:t>Other Federal agencies, tribal/state/local government partners, environmental groups, communities and concerned citizens and industry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Verdana"/>
              </a:rPr>
              <a:t>Challenge: What is the appropriate role for EPA as broker of some of this environmental data?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4921-5AD1-4DA5-BD42-38B7D93C46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7b14e"/>
                </a:solidFill>
                <a:latin typeface="Arial"/>
              </a:rPr>
              <a:t>EPA Data Policy</a:t>
            </a: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5858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8"/>
                </a:solidFill>
                <a:latin typeface="Verdana"/>
              </a:rPr>
              <a:t>Current capabilities for data and services</a:t>
            </a:r>
            <a:endParaRPr b="0" lang="en-US" sz="18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National Environmental Information Exchange Network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xchangenetwork.net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GEOSS Registries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EPA’s GeoData Gateway -&gt; Geospatial One Stop (GOS)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5858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8"/>
                </a:solidFill>
                <a:latin typeface="Verdana"/>
              </a:rPr>
              <a:t>Near term future capabilities</a:t>
            </a:r>
            <a:endParaRPr b="0" lang="en-US" sz="18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EPA Earth”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Environmental Decision Support Center (EDSC)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Collaborative workspace through which EPA staff can discover, access, use and share environmental data and tools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Pilot testing to ensure that services respond to known decision making needs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B5E1-1A04-4F82-9542-20B65E5BE6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6:38:10Z</dcterms:created>
  <dc:creator>Joe Rupp</dc:creator>
  <dc:description/>
  <dc:language>en-US</dc:language>
  <cp:lastModifiedBy>Jerry Johnston</cp:lastModifiedBy>
  <dcterms:modified xsi:type="dcterms:W3CDTF">2009-01-06T16:50:06Z</dcterms:modified>
  <cp:revision>42</cp:revision>
  <dc:subject/>
  <dc:title>Coaxis International, ASP</dc:title>
</cp:coreProperties>
</file>